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839450" cy="7761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958-E231-4600-91A6-C65B0364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48632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54C-E63A-470B-B186-B2E924CE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96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A23-70C2-4862-82EF-7A58180E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940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808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940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808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F243-E0BC-4ECB-8ED5-F60B32D1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56E-290B-400A-92E0-3A8C1BE5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4B5-502E-448E-836A-B42729DE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95E-8F67-4AD4-99EF-A30CCE8E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77F-35F0-4B10-B00A-D0B714D5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11040"/>
            <a:ext cx="975492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119-1889-40CD-BA95-A453344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9F6-356C-47FF-A75C-04EDB2E6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96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EEB-E635-4C77-BADF-6D2DC00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4F9-E69D-4D6D-AFF8-6504F0E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067160"/>
            <a:ext cx="2528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3320" y="7067160"/>
            <a:ext cx="34304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720" y="7067160"/>
            <a:ext cx="2528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CA26-F05A-435E-AF99-2E90DBA5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" descr=""/>
          <p:cNvPicPr/>
          <p:nvPr/>
        </p:nvPicPr>
        <p:blipFill>
          <a:blip r:embed="rId1"/>
          <a:stretch/>
        </p:blipFill>
        <p:spPr>
          <a:xfrm>
            <a:off x="304920" y="1562040"/>
            <a:ext cx="10397880" cy="5715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10325160" cy="5829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10477440" cy="6934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" descr=""/>
          <p:cNvPicPr/>
          <p:nvPr/>
        </p:nvPicPr>
        <p:blipFill>
          <a:blip r:embed="rId1"/>
          <a:stretch/>
        </p:blipFill>
        <p:spPr>
          <a:xfrm>
            <a:off x="266760" y="228600"/>
            <a:ext cx="10363320" cy="7315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363320" cy="7162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0553760" cy="3504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10325160" cy="594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" descr=""/>
          <p:cNvPicPr/>
          <p:nvPr/>
        </p:nvPicPr>
        <p:blipFill>
          <a:blip r:embed="rId1"/>
          <a:stretch/>
        </p:blipFill>
        <p:spPr>
          <a:xfrm>
            <a:off x="190440" y="76320"/>
            <a:ext cx="10439640" cy="4190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6:36:33Z</dcterms:created>
  <dc:creator>2</dc:creator>
  <dc:description/>
  <dc:language>en-US</dc:language>
  <cp:lastModifiedBy>2</cp:lastModifiedBy>
  <dcterms:modified xsi:type="dcterms:W3CDTF">2009-02-13T06:36:56Z</dcterms:modified>
  <cp:revision>1</cp:revision>
  <dc:subject/>
  <dc:title>Слайд 1</dc:title>
</cp:coreProperties>
</file>