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EAC6-C097-4C99-821E-78BBF130DF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8FFF-AAB5-421A-B9BB-22E14287E7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FB5-D0D4-4956-9757-D608A4EF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C10-1A9B-4D35-BF8D-9CE29A7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39CF6-C78B-4962-89A7-37F5C41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B0BBA-698E-4DE2-B073-503D51B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0FE99-D12A-451C-A861-39655B6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D3CD3-7C28-4361-8496-8B321EC6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833DB-1C2B-417D-BCC1-6882681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63431-DA5F-4F36-95A7-45DF4B3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326DF-FAEF-4EA4-A2FD-53E75219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0577-ED3A-4AC1-BB16-22C37491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F4E49-223D-4F64-BD7E-51213245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3046D-5EDF-4CF5-86AB-B1922E8F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8B59-4C88-457F-8423-E1F1D3D1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5A57C-7D7F-4095-91FC-A6F28419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D8485-8257-4133-AC9F-8A9A20F2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A88BF-F9E0-4D35-B8FC-C5FA017F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4B28B-B7CF-4B64-8C6D-84D5E996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44C82-B1E4-407F-8D84-151651C0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DE3AD-EE61-4911-A2F3-BA60E412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8863E-B757-4538-9B0B-B303574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4CC84-E942-4714-B9D7-0376CD90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664E2-6E0F-4F4D-B127-7F5118C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05769-1961-46AC-9DF0-78BC7DC5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73D-8D5C-477B-8CD7-000E6BB9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36C2B-414C-48F1-8BDB-9E4F5EFC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984EC-C6F2-4CF5-900B-ED0BB93C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DE686-DB2A-4CFB-93CA-FD7342D3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3430C-69C8-4F70-94DB-861B37B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8AC41-0433-4C94-B39F-601C270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83B85-ECBF-453D-939E-F6D86D64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76B16-0CB0-4305-8783-4EF13411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E1F18-BCFC-4236-9F47-824A544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ACA7E-9CD9-4979-A62E-22CF9C4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09B65-3FEA-4DDB-B5F3-53B262EF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5B21-923C-4FFE-8F7D-39FE4350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626D6-02C7-41DB-8E49-1CC96EF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D6116-CFBF-43DD-8C32-A5B75B9B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CE3FA-EC9C-41B2-96D8-9ABB0E73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E0EBF-0A1D-4466-AE63-E0BF29DE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A7C5C-FCA8-42AE-B0A5-E84A3A87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41968-A2CE-4274-9D79-7C8B6D12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A18BE-D41E-45E6-82E5-AEE168E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8DC0F-D8F2-40DD-9CB2-4338904C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F12C8-7221-463A-B05B-99024BC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9BD18-9953-499C-8605-D078FC2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7A44-2EF6-43FB-8F36-83F56AB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379B9-41D2-4442-B56F-27A32C3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16A19-5036-4CB4-AB0A-B115C2E6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A0AB8-1CD8-4678-8074-6B2BB200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93F23-EE7B-4FFF-ADAA-27997DFE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56C0-9D82-4A4C-B969-AF4208CF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1A28F-1270-405D-98E6-96747B59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442C7-CC5F-4DD0-AD4D-3E46E20B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6B5FE-3FF5-46EE-B6B8-4726FA7C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3E53E-4B73-46F6-B06E-5D60305C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3E4DE-CBCF-4C62-8721-4D434003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57E5-83AE-434C-859F-C1CD5D9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358C3-30EB-4121-A34B-891D837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FEAF0-1A7D-48B5-8A0F-0DFC4C1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FE339-4AC4-41EE-8FEB-E957668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3FB63E-F6B4-49D9-844E-D963066F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33140-3839-49C5-BD67-AB34283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836B4-3743-4898-8E27-083F8C8B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F173C-95A4-4E51-8C28-5A2B4134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9B5F8-9F87-410C-81FF-0D4FDCB6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013D4-1D9A-499E-8587-569EACAC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35393-47EC-4B2E-AECE-4007555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018-878D-4682-829C-E6EA896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6E662-8775-4E35-9552-C33287F9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23095-FDC0-44A7-9A0C-35BB5E45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48816-E1CA-4104-AB42-D3B5FBE7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1C491-0054-4255-BDC4-A26A423E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DCF4E-98FB-4CF2-94CE-F49F74CD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1191A-63A5-42D6-A80A-3F395FF3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1F052-90BB-4494-9A11-1486A211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F7CAB-ABBC-46B3-AAC3-52770F25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CC0EF-B317-4B0B-9CBD-4CCE9D1F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69DFC-DF76-476F-AF1E-34B299D6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726D-49BD-426C-81DA-AD2F7A3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ED13D-B8E7-4E48-BE73-9D2E331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85B902-4943-480E-9D39-C5D297B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B2D9A-A1D5-4969-BA41-2BB2B51A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885A9-7882-4FEC-85B6-C5AAF49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899DA-2EC1-4A3B-867A-4B427B71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4FEF9-185C-4783-B962-919BDD90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90158-5926-46BD-B707-830811EF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670328-0A8D-4825-8768-3310B342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B8F83-795E-4B5A-AC87-B8A09871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1FC4C-844B-4F53-A625-B961AF77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D438-4B8D-40CF-9D60-74357BB2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913710-14BE-41E4-86A9-D13B25A6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B7B2F-78DE-497F-B069-0237C0F0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0F7F1-2D1D-4993-937A-69F2BC1C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02A17-056F-4138-94B6-8B7BC59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8AC5F-C3F8-4E87-A37C-A282CFC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7D206-B4AB-45EF-AD6E-497D077C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BAADA4-E9B6-4262-AD85-E1DE6EEF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03FF7-F2D2-46E9-940C-9B044A31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119FD-3723-42F0-8B3C-BA68481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33EBA-BCC5-4239-A8CA-4057482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2C0A-B34F-4C6D-964C-51F7D8F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1FC395-AA2A-4348-BEEE-6339BF18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0E9BF-F95E-45D1-B842-E6E18D27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88472-F45C-4687-8C3A-C64F7222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59AA7-A16A-4D57-A187-6AD767CD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7F1BDF-CD03-469C-AEF4-FFF87AEF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85149-5803-4B43-B8A6-0326689B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3802C-AD6C-4A7E-8727-229DF45C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193CC-0A1A-4AA6-98E5-68CFAAF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D03B0-F8A5-4BBC-AFFC-AB21AE1F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972DEA-F806-4AD9-844E-730B5113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61D-81DB-4C5F-8292-AB303DED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93F7-E5D2-4908-A65B-B62B4531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E718A-B024-44FB-A424-4C29EF1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6BDF4-CF7A-4177-9D81-644D75A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ECDE5-8336-463D-8C22-F86D0F7F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BB4513-66CA-4D91-997E-DBC1D678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031202-3934-41EF-8927-4E2167D3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EE9BA4-CADE-4870-8A0C-25D65331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E94E2-D61F-4307-A16E-264911C4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A5475E-572B-4A31-9F42-E2A9B9E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4DD58-6B11-4FA2-818D-C9512A0D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75F85-816E-4D0C-B328-1B773AAD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E01-718E-4318-97E4-F49CC875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D5B60-E455-4D44-BEEA-95173220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D6F23F-B8A2-4CE7-BD3D-2F810B3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BBCE0-9575-4A95-AEC4-65ECC70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462FA-6D60-49AB-B6ED-E8B35B08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DED87-A6F3-4EF6-8204-E823CD3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0263A-2FB5-4A07-AC5F-A3A3CA65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407B8C-FCF8-479F-BC3B-D194AD08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2130C-24F3-480A-815D-27F0C169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170953-B7B9-4488-95BF-1DF240D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FF438-CA8E-4A0F-B9B2-73AF2A3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55F-4EF3-441F-9E6E-E5DC10D8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ABEEB-9355-4523-A627-5D93D487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CED5B-8BB9-4E45-92DF-EC6127CA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1585D-1E16-484B-BA9E-7A370F9C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43676B-8DBA-4718-93AF-EFC9A33B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D312C-6FE7-420F-88DF-DC824EA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66389-CEE9-4198-84F3-D6243761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217C8-0723-4EC8-9125-DE35171A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4679F-5F6D-40C5-9113-CA1DD028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06734-889B-4E41-B84A-243A1E02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A264C-6C67-4F1B-B8AE-937B4E82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C27A-D5F1-4A0E-960A-7CF6740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280477-30E8-4924-A4DD-2B006AB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BA1F7-0338-463D-9B40-AA4E157B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EC2E1C-5163-4C4B-B2FA-4F172535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3CACD4-E88D-45E0-8B4D-DA7D2DC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EDD00D-1996-41BE-A6C9-85ECD79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A3FA2-735B-4C83-989C-8484944F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0A135-254C-46E3-9D13-D5139E1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CC8C6-7685-4792-9E57-5F3295E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71581-3C5A-452F-AB77-5D96226C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15205-99B9-4AFA-8A59-3BF327A2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62A6-CD5A-41F7-8D2D-4EF84165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66902-B8ED-46B9-B92B-46734617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152CEF-4131-4983-998F-0D485DAD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E0138-BFCA-4F1A-94DF-7101385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0F8BD6-794F-4154-B65D-070EDD13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7BA01-00F8-4141-93C9-B9887A82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3B0DE-2D9C-4C5B-A78D-2EF26A29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3E08A-5A1E-4CD7-89C4-B75EF61C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449C4-750C-48AB-A743-4CD0CD31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52E762-A9E6-4209-A9B8-7C62D896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90674D-9040-4E60-A820-3E33C541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EDEF-05D5-4975-B067-390D1296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155AF-ADE4-4D8A-9DA9-FF3C99F2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6C169F-D4F3-4FC6-B682-764B8954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AFCEB-725C-496B-A557-411AB1CE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778C13-AE8D-4115-B898-ED627756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5ECED-92F0-4CDC-8D76-65701887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B874B-F3AE-4318-95D7-0EF4125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FC9746-2003-49CF-A13A-56CF665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74988-F9B7-4E47-A52A-2BC93DC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925CEF-058A-4CD2-BDE8-2D3BDD95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98CA75-9D07-43CB-A189-5F43B14F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90AA-45B7-4826-93A5-ACA1B214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957A7-683D-48BD-BDA5-99D94AC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23E1A4-F6C9-4CEA-8501-E506837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E90F2-660C-4E49-937A-6F75139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685832-1B4D-44D4-811A-A01C3E6B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1A0BE-E87A-4099-AC8D-7491748C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D5FAE-5445-4B8B-A88C-83DEA298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7290EB-4444-467D-A9A8-0797729A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2BFB4-AB5B-4137-8D77-9B77DC90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5F9C7F-D0EE-4BF6-8E10-B42A541E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69BD6E-01EB-457F-94B5-DF05EE93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408A-A6F7-447D-AE8D-7D9F29F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F5F790-D70C-43E2-99DA-CA042D4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F9FAEA-155A-410B-9F7F-F89C76BD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6C4EF-AC8A-4148-90B3-EA8C09EF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1BDAB-7615-4F52-A355-5195740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23C851-5572-4447-81EC-54CA1AF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31813D-8E54-4FCD-AB77-61894489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4E6A46-FE33-437A-967F-3A2C9B66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D1EC7-B1AB-4779-A886-751C4FF1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8DCF5-1076-4E1F-AC60-6A478D5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58CF03-4014-405F-BD2F-44A4069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F3B5-2669-4565-8B3D-CA223B8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22C105-D2F2-4E62-9058-82A58A7D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75516E-CD2A-454C-A05D-C1F280D4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D3D41-874C-4537-A98C-ADCAFF0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44A04-26C5-4F45-B275-6D520524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F13E2-8D96-40F5-A83A-44F3E6B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17ED0D-F6A1-4150-A9CF-7FC46CC7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67622A-8243-4997-B263-265A5DD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AD795-D240-4112-80A1-D733892A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809D0-64F9-47D4-923A-4093D952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B418-4DBA-4517-A5A9-7A5AB078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532-8308-4474-8C76-21322AA7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D554-8AB7-45FB-8E15-BE76CCA2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C8D52-C588-4692-BE40-0D4E478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B9C40-FEC0-47B4-AF39-B9F84D1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72D83-BB6D-439F-9ABA-C6AB18B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6B440-7803-401E-A1C7-91601432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428B-11EF-47C3-9F9C-97F3E7A9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85528-07A1-48B4-905B-FB8D27B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C7CB-E7FE-4D90-8AF1-B838B73D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C5F8-5E40-46C4-AA29-ADEA9815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FA767-4BB3-486E-8EA6-2725E515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673-8EAB-4C6A-905D-A977BBF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FB37-23C6-4BB5-A2E8-D590E8D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2BBA8-A39F-41F0-ACD8-EFFCCFFE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0BCBD-C336-4D06-8808-7BCF22B7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2644-2189-4831-8871-62CD180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8A1D-3437-4E77-AE90-B27C04D5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4079-58DA-4DB3-82DD-9D826BA2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CE7D2-F576-4DB4-A6BE-A21604A5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08E5-C9A5-442A-9C39-60475226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8D85-1A80-4B1C-AAB7-D9C19D43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A696-1C1A-48DE-9025-CFA5A4AD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904-ED31-4A79-AB60-122B7A6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E7273-A358-4134-BF75-E56795A9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6A8D-0102-42DF-A678-1564AFCA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4EA6D-FBDD-4D53-A482-14D1E9AA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5A6C-A1CC-4BE0-BEC5-D599B721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FA49-AE6D-46CC-A2CD-5DF4703E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0382-8E89-430F-9C7F-55915BF4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C7025-AB25-4584-B0DE-FF050CC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8434-4D9A-4C03-82CB-C5425756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F8A6-17FC-4043-A793-BE442C55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F91A2-2012-4E5D-BFE1-F68F3D0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943-C72E-432E-8E68-78B25584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BFBE3-3698-499D-909A-62EEF257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631DC-21FE-4551-931B-C503C6FF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945C-3971-446E-898F-C4FF1FCE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1C1D-3B90-435D-8211-F407338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0253-311C-443A-AC95-0544F15C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263A3-151B-436F-AF8B-7833352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8381-C7ED-4CB6-B8F9-968B1ACE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2DCE-B656-4975-8647-B14618D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C652-10F1-4160-B811-CDC358F9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CD37-BF76-4FB2-8CB8-5BB9F15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855-D082-4B2D-859D-FCD8108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A013C-66BE-40D9-9F8D-7FB4C756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5587B-B02F-4F4E-8292-9321C0B9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00438-F14B-4CBD-8C00-14D16F8E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B5456-87BA-4A70-80CB-A1C98156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E7DB1-6602-42DE-9F96-C996576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BF05-28C4-498C-A8B0-E619095F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7892-1AF7-4621-A5D4-5946601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B62BB-4CD1-441D-BB28-3690C9B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915FD-2721-487D-B40B-7A2B64C1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F0E8-232A-42FA-926F-0DC90E52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344-0F14-485E-8F53-56DA0B0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BE6A-0F38-4432-8648-78DC2F8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72779-0CC6-403C-8183-F1DB5E20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FE495-CA64-4CD9-AB6C-0AB74DEB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41B6A-E4CA-41E3-BC9E-BF61727F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4B0A-C04E-47E7-AF4B-DE2AABE9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405D8-5B24-45A3-8C05-186AF983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A604-5EC6-4610-B20D-8F70310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A0B2-0A96-42D7-9C95-59CD443E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1F30E-85DE-4C70-BD8D-67EE7B4B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F872-7B1D-4617-A473-C5148B8A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353-323C-49C3-BFB2-CFFBDF7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E164D-5A56-4348-84AF-F1CC2E1C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AC934-A303-451C-9B2D-4E8F085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7B8E-8ADC-4AF7-B2F5-DA3A7CC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77304-14E1-4538-BE81-355B735D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1E7C3-1D8E-45D6-A7D5-E5750734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888C1-D402-4647-8481-9DC92DCD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64C8-615D-4BD2-B7DD-0BA5438C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E2B9-AE8B-439E-A014-BE42B5A8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56507-A754-4B04-A6BD-BA1F4903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0F950-E7D0-4CF3-BD75-BDB05B9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E7A-EDE4-4CBF-8ED1-2D089BA87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C02E-AE7B-4855-B2A2-631279BE18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D551-78D1-4403-B65D-AE7F6A8391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1BAB-1B34-4E45-99D4-48BAE3B25B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855C-99C0-4336-9510-85EA43BDDD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E044-6D35-499F-8D20-93DDDFA4D6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4FAA-9B22-4662-9E97-04828421E0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12D-E796-43D1-8530-A3B21D1C63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7FC7-A587-46BF-8EEB-5E8F273234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B9F-A7D0-4209-9285-59E7DCADB0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CCBF-23FA-4A25-9921-DCC991E4DC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324-48DD-4EAE-A858-31FE919AA4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798B-02D0-4A0F-84BD-8B091441B6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8A67-D76F-48C3-AFE7-D2FDF42CFA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6F6-40C6-4CAF-B21E-1D17E5389D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7BBA-04B5-48F7-A378-485A8C4FBA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105E-C23C-4CF4-9F7C-A0871BA83E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06B2-15E4-4600-ABDC-EFA6CAAA99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8B6E-C964-4204-9835-DBCE3E9944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F773-B94C-4E7B-BE7B-DCE3821A0B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E071-E181-4FCF-8B5F-F4F393624D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AE9-FD1A-4EF4-88C0-A545E1BC70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0177-51C4-45D2-A9A8-5B48B77DA0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E610-EF2A-4E97-9084-2556285FE6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55560" y="5412960"/>
            <a:ext cx="8064720" cy="792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 заключаетс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 дне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через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дне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ты размещ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диной информационной систем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и оценки заявок на участие в конкур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контракт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тече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ет в реестре контрактов на О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3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22400"/>
            <a:ext cx="8448480" cy="871200"/>
          </a:xfrm>
          <a:prstGeom prst="rect">
            <a:avLst/>
          </a:prstGeom>
          <a:ln w="0">
            <a:noFill/>
          </a:ln>
        </p:spPr>
      </p:pic>
      <p:sp>
        <p:nvSpPr>
          <p:cNvPr id="994" name="Стрелка вниз 4"/>
          <p:cNvSpPr/>
          <p:nvPr/>
        </p:nvSpPr>
        <p:spPr>
          <a:xfrm>
            <a:off x="4313160" y="765000"/>
            <a:ext cx="576360" cy="28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Стрелка вниз 6"/>
          <p:cNvSpPr/>
          <p:nvPr/>
        </p:nvSpPr>
        <p:spPr>
          <a:xfrm>
            <a:off x="4308480" y="356400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Прямоугольник 7"/>
          <p:cNvSpPr/>
          <p:nvPr/>
        </p:nvSpPr>
        <p:spPr>
          <a:xfrm>
            <a:off x="622440" y="2455920"/>
            <a:ext cx="7993080" cy="1044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мещ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  официальном сайте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 рассмотрения и оценки заявок на участие в конкурс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ур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ть контрак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дставить все экземпляры контракта заказчику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обеспечение исполнения контра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Прямоугольник 8"/>
          <p:cNvSpPr/>
          <p:nvPr/>
        </p:nvSpPr>
        <p:spPr>
          <a:xfrm>
            <a:off x="611280" y="1052640"/>
            <a:ext cx="8064360" cy="100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3 рабочих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пис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кол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я и оценки заявок на участие в конкурс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отрения единственной заявки на участие в конкурс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ет победителю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риложением проекта контракта, который составляется путем включения в данный проект условий контракта, предложенных победителем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Стрелка вниз 9"/>
          <p:cNvSpPr/>
          <p:nvPr/>
        </p:nvSpPr>
        <p:spPr>
          <a:xfrm>
            <a:off x="4348080" y="2060640"/>
            <a:ext cx="5414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Скругленный прямоугольник 10"/>
          <p:cNvSpPr/>
          <p:nvPr/>
        </p:nvSpPr>
        <p:spPr>
          <a:xfrm>
            <a:off x="655560" y="3933720"/>
            <a:ext cx="806472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не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ы получения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бедителя конкурса или участника конкурса, заявке на участие в конкурсе которого присвоен второй номер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санного контрак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ложением документов, подтверждающих предоставление обеспечения исполнения контракта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азчи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н подписать контрак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ередать один экземпляр контракта лицу, с которым заключен контрак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Стрелка вниз 11"/>
          <p:cNvSpPr/>
          <p:nvPr/>
        </p:nvSpPr>
        <p:spPr>
          <a:xfrm>
            <a:off x="4356000" y="5052960"/>
            <a:ext cx="576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Схема 2" descr=""/>
          <p:cNvPicPr/>
          <p:nvPr/>
        </p:nvPicPr>
        <p:blipFill>
          <a:blip r:embed="rId1"/>
          <a:stretch/>
        </p:blipFill>
        <p:spPr>
          <a:xfrm>
            <a:off x="109440" y="1017720"/>
            <a:ext cx="8858520" cy="49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9:09Z</dcterms:modified>
  <cp:revision>156</cp:revision>
  <dc:subject/>
  <dc:title>АДМИНИСТРАЦИЯ г. ИВАНОВО</dc:title>
</cp:coreProperties>
</file>